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13E9-4CD2-4CCF-9CCB-628386D3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0AE-19AC-470D-BA26-3B84D145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56870-F843-4837-8893-F79A2652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4C0C9-5848-4F49-AE5B-CA97EBDD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7F8AF-D480-4049-8F07-3916FB84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EF975-B984-45DF-BEA8-DE99DBD5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78C84-EDA5-40E3-A43A-C283569F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C29B0-FC8E-47FA-A4DE-417C2D7F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82CA6-887B-4ECE-B8CE-526D523D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65104-C509-4D85-B92D-BA49C02B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523BA-292B-4574-8405-4130676F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BF0F7-2170-430B-A662-7E219161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C33-7166-4F1E-ABE6-5CFD0670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6759B-13C2-4A93-817B-AD5724AE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DBF0C-E5D6-4301-910B-DE1F2BE8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E2FED-F610-47EE-985F-C8E4CF68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DB28B-43EA-4263-A920-67FD0D98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728BE-A6CB-4F4E-94C7-7DF3C139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913C6-415B-4718-9D45-B32CEAC0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E2680-863B-42A4-B0FF-32D0B866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0F38D-A5CB-4A37-BF5D-BD1811CD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189E4-5100-4684-AB63-20C93693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D0CB4-55C1-427A-94E1-7ECDCF91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52E-A24C-48DB-9386-1F40D0E0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261A1-724E-46D1-B158-4E8EAF57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460BB-2766-4E5D-BBB7-2CF3F244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1E61E-8E8A-4BA8-B371-A85B9658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A6D4A-6716-48C1-9CB0-EB8B1565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D1191-725D-4D49-B74E-BD318E1E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E9D3E-E093-49D0-807C-3E7D7E3A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753A3-A75E-48AA-A70C-C5517B69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A0256-D683-4F29-9D87-A620AB41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87BC9-F054-4ADA-B41C-0A84492B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4C706-99E3-4758-BA2C-52038251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2369-4647-4CDC-8982-1BDB831D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895D9-0C87-4EAA-A7F9-DAFD8C0E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F58D3-31B0-4EE0-91E5-F9E3017C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750C9-5025-41B8-A887-CC2C860A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9967C-6A0B-4940-8729-E0AFE057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E9F15-2F7B-435C-87D5-B244D74E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C4B55-80FA-46C0-B9F4-4754868A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3E47B-152B-4DE9-80E0-C9AD81F0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564A2-D097-4513-8F0B-FC0BCD53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5876D-DDE3-4484-B070-39DE3C26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A5F73-EFC3-491A-9DD8-EDA3D253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19E8-A2F2-45CE-9464-C004309D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CC9C6-0536-43E5-913B-FE5C8E23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8F7E2-E81D-4B74-8F49-F5B4225C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3A401-967E-45C4-AD12-24DB9788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043CD-1509-4CF6-A606-B093CE09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D0656-6B4C-4949-8377-DF46BCF5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02AB-AD5E-4506-A386-3AAD8223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E26D-267F-4EF6-9547-E06FB509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CBD9-9161-4E42-8140-B35DC923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70C9-9045-423F-A2AE-AA969833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B5D7-B475-4B6E-8960-B10E9463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41E1-3429-4A43-BAA8-42C62683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5D03-4971-4C43-B3B0-5891A85A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F911-FA6F-4E8D-BBDC-D16B58D4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6BBC-C55F-4C6E-9855-3C9B2FFB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9524-2A66-4612-BCAB-44D8AC1D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5A18-DE4E-4BBF-A215-EA2988B7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4BCCA-8276-4165-A7FF-88430A6D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4E752-C321-4190-887C-2FC1FE2E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B67F5-4F8B-4804-BE73-78F414AF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1E07B-D4C6-4E3D-8418-A7FD5A3B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DA01E-1477-411D-98C7-EF3CC206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B82-A1C5-41DC-B585-FBBC651B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FCC42-94A7-42AC-B2E0-44EFA71F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43542-0E51-41C3-9E54-62953DF4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4D747-DD98-4417-9074-5810C4F6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3E56A-A250-46B5-8DAE-32BA7EC4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16530-4DFF-4099-890F-470F1088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C532F-F91C-4027-AEB4-627CC0DD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D9815-E568-4ADE-9816-7F387ACE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798CD-E9A2-4279-91C4-98330D9B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409E7-C8EE-4C25-AE7E-D18C0F67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8CE31-F174-4292-8614-45183107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32ED-D509-47C7-94CE-44B9A6FF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AC0E6-9183-421E-A249-DDD2F5AE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C82DF-EB1A-4868-94D4-BB01B454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55E02-B4CE-4429-AB88-D51C5630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0E133-F3EE-4236-8509-252FB5FA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1AE56-2A19-4BDA-9607-2C2EA538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6C461-C9B4-4476-9B54-8B91D6B9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3643E-3260-490A-ACEF-0365F0A8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E5069-4AEB-47D3-A765-E3CCBD23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18337-3E24-44E7-B108-79B8D832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923B8-FF74-4F31-9A0B-E2F83C7E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DBA-8774-48A9-91AC-6444EEFF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2A46F-9A47-4ED4-B5E7-E204D2A2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D8F12-B462-48BC-BB02-88201DC7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A03E3-0558-4725-89CC-5330CE55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EBF05-47D5-41C3-A0CE-8FA5C991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456FB-F484-42AB-B381-E47D6DE0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A2523-8363-4DEC-B675-47465EF6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07C3D-CDC1-48C0-99B3-6CD7CF65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3E395-F1CB-4D62-A780-88E0048F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EE45B-4E6E-4B05-93D4-490611FD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2BAF0-0597-4EB2-AD9F-425043E1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F3AD-580D-4299-8C72-249D5079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66B22-09D6-4AB2-BF91-C1D19F94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0AF0B-6DAE-4B0F-8EC2-4D2EB8AB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DD7AE-0A54-427D-B224-882BB7A4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3AF44-070D-4A8B-B389-73BAB9D4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6C501-EB1D-4D01-9011-01E45410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8A67A-EABA-4D3F-975B-2D719EC9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3605A-25BC-4082-B966-B7B0512A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5A42B-7601-447F-84B7-B791C7FF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006F2-2E32-4B22-AE5E-5FE1F600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62D2A-3A96-4EB7-913B-37C2D4FB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69DA-6DDE-4162-B218-B9CE4FF4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6BFE2-5CA2-4655-85EF-AFCAA0E8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A3C67-278A-4618-8407-18ED724A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1145F-833E-440B-9AEB-2037E20E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C466B-D8AB-46D6-B101-260A37EF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A3374-41B3-4C20-9BE9-5E2B596F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CA7C8-A5D4-4336-88F3-BA6358B2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71A71-5534-4AD7-8E75-BDE6721E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75B04-6B10-4F72-912B-EFC558A0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5AA41-26EC-4D38-990D-F50C6539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FFDCB-6A64-4172-970C-42EBC785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32C-E531-434C-9DF3-2A6FA904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60354-F530-4764-A2D5-88F77810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57F79-6FB6-4A40-A70C-04DE05CD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94DB4-C319-4613-B6FF-916F2D70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0C9B7-F468-4CB1-91BA-BB5E67D2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ED7D9-FDA5-46E0-AAB9-DAD71B56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EFE44-7DC3-4E0A-9865-C4580E7B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87BAB-4E1E-4851-A7DE-31C465C5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4A7FB-E102-41EC-8C73-FBEEF35F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6B69D-0999-4FBF-8D0C-C6D9ABEF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A20F6-05D7-4E98-B1D3-BF36CC41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D60-4055-403D-92BC-89F4E96D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D1E53-D022-441C-AB8D-0ADD4710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AADFC-080C-4D66-A884-3A8AF3EC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801CD-E966-430A-9F45-6DC25FE8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82B16-89B4-4427-9702-CC0FDED3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573D0-19C9-45D8-A385-58AB865A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328B6-69EC-439E-A65B-6DB5836A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B584F-51F1-4F3A-A1E7-7368B89F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D2A85-4CAD-4450-868F-A14A4033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526F6-3CE6-48B2-AEA4-5BA391A2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D5B0F-551F-40C8-9259-E86DFC70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7197-255E-441C-9C40-DCCF72E880A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0A83-7072-4304-B07E-07121FAC7B3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3E47-DC6A-4C31-9266-E88D8F1C645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2A7C-1765-4130-B5FE-CA155DF6B4C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B4FD-81E4-4E2C-9467-DB09E3FC9FB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9D3D-37C2-46D3-A8E1-83D220DB9AA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84BE-234F-48B2-AAC6-C64F6746909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A0B9-DAD3-4E16-8664-DABE86CB352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30D3-F4F1-41C8-8840-A7429B56974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8A59-1AC4-4E7A-B66D-500255F8888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86F6-40AA-48EC-8799-A4A016C86E5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00D5-1EB8-493B-8BD3-EDF6C941EA9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10 Strážcovia stáda Božie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rážcovia stáda Božie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oďte do sveta šíre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ratené ovce hľadaj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Pastierovi ich volaj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ľadajte, volajt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vce v svete blúdiac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láskou ich priveďt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náruče milujúce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ôžte všetkým znaven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jsť silu v žitia pramen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stier im dá svoj pokoj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de ich chrániť sprevádz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ľadajte, volajt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vce v svete blúdiac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láskou ich priveďt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náruče milujúce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ozneste Božie pozva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veta verne, odd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Krista mnohí poznaj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a ním verne kráčajú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ľadajte, volajt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vce v svete blúdiac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láskou ich priveďt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náruče milujúcej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6:25:57Z</dcterms:modified>
  <cp:revision>21</cp:revision>
  <dc:subject/>
  <dc:title>Je veľký náš Pán, on slávy je Kráľ Nech do všetkých strán  spev vrúcnych znie chvál.</dc:title>
</cp:coreProperties>
</file>